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09E8-2C1D-4981-9025-6B4911EA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BAA4-5939-4B7F-9A12-66CA10BC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5379-83BF-4949-8481-629AE3F7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C515-789E-4FF2-A19C-BE32FB7C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883-6353-423D-8A79-AE115E7B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8410-29D2-485A-90F9-8F79327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7D13-9DC4-4F2F-BC5C-9099EDBE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944-B99B-4AC3-9A14-8DAD9B4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D416-6D1E-4646-BD99-2A0B409C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331A-FBA4-488D-9969-9F700212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675E-8265-4080-9B14-0411FE6A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B193-22FB-41CA-AA15-11824602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5B34-F795-40FB-AE75-6270719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0E7C-13E9-4F27-ADE4-9947BB0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B09-0C76-4105-90A6-7E7B8EC1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93A-ADF1-417F-B101-DA21E3E5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5F35-CD52-438E-B642-29A25C34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A7C5-33FA-41AA-BE96-E8A0F711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8DAF-B345-4763-9440-678B6723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7641-96A3-4FFA-AC7C-04386DCA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23D7-C4C7-4929-A465-D90F943C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5F16-31BE-40C5-80F3-971A15F1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F192-6F8D-42EF-B5A2-8D9B8E4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BF42-893D-436E-B05F-31C81E9F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9E0EF-D5D7-4681-B07A-936DD4839EB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02498-FB65-4D36-A939-523B776CE3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ura Ingles Wild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Madeline Sur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ographical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7520"/>
            <a:ext cx="403848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ura Inglles Wilder was born in a log cabin near Pepin, Wisconsin. When she was one, her family began moving throughout the Midwest, serching for places to establish farms.                                                            http://www.littlehousebooks.com/girls/laura.cfm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253800" y="533412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lauraingallswilderhome.com/?page_id=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3962520"/>
            <a:ext cx="15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05520" y="1579680"/>
            <a:ext cx="403848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meline of he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62520"/>
            <a:ext cx="8686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00400"/>
            <a:ext cx="762120" cy="457200"/>
          </a:xfrm>
          <a:prstGeom prst="wedgeRectCallout">
            <a:avLst>
              <a:gd name="adj1" fmla="val 30625"/>
              <a:gd name="adj2" fmla="val 1034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o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286000"/>
            <a:ext cx="114300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ved to Missou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60320" y="3124080"/>
            <a:ext cx="30816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895480"/>
            <a:ext cx="914400" cy="6098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ved to Kan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17520" y="3505320"/>
            <a:ext cx="2318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3623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ved to birth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971800"/>
            <a:ext cx="1054080" cy="1143000"/>
          </a:xfrm>
          <a:custGeom>
            <a:avLst/>
            <a:gdLst/>
            <a:ahLst/>
            <a:rect l="l" t="t" r="r" b="b"/>
            <a:pathLst>
              <a:path w="664" h="720">
                <a:moveTo>
                  <a:pt x="664" y="0"/>
                </a:moveTo>
                <a:cubicBezTo>
                  <a:pt x="420" y="264"/>
                  <a:pt x="176" y="528"/>
                  <a:pt x="88" y="624"/>
                </a:cubicBezTo>
                <a:cubicBezTo>
                  <a:pt x="0" y="720"/>
                  <a:pt x="136" y="584"/>
                  <a:pt x="136" y="576"/>
                </a:cubicBezTo>
                <a:cubicBezTo>
                  <a:pt x="136" y="568"/>
                  <a:pt x="88" y="584"/>
                  <a:pt x="88" y="576"/>
                </a:cubicBezTo>
                <a:cubicBezTo>
                  <a:pt x="88" y="568"/>
                  <a:pt x="144" y="520"/>
                  <a:pt x="136" y="528"/>
                </a:cubicBezTo>
                <a:cubicBezTo>
                  <a:pt x="128" y="536"/>
                  <a:pt x="48" y="616"/>
                  <a:pt x="4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971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ved to Minnes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65440" y="3505320"/>
            <a:ext cx="2318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3045960"/>
            <a:ext cx="228600" cy="9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ved to Io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029200" y="3579480"/>
            <a:ext cx="76320" cy="38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25146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2666880"/>
            <a:ext cx="10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ned teaching certific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114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rried Almonzo Wil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809880"/>
            <a:ext cx="14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048120"/>
            <a:ext cx="10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ved to Dakota terri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3886200"/>
            <a:ext cx="14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4114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ughter bo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35053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14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16765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ote first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846560" y="2590920"/>
            <a:ext cx="795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9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86800" y="2438280"/>
            <a:ext cx="144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oks She Has Writ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28268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1270080" cy="190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191120" y="1219320"/>
            <a:ext cx="1282680" cy="1904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943600" y="1219320"/>
            <a:ext cx="1282680" cy="190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861320" y="129528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09480" y="43434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38280" y="4343400"/>
            <a:ext cx="131940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4267080" y="426708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6172200" y="4267080"/>
            <a:ext cx="1295280" cy="1905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20120" y="43434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426708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ree skils Laura Ingalls Wilder does well: characterization, descriptive language, and setting descri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12408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ttle House in the big woods. Book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4008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24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Long Winter. Book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6216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ttle Town on the Prairie. Book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6095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se Happy Golden years. Book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1722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first four years. Book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124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ttle House on The prairie. Book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32004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n The  Banks of  Plum Creek. Book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3124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y The Shores of  Silver Lake. Book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33526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rmer Boy. Book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 of Birthpl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4952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pin, Wiscon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5334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climate of  Pepin, Wisconsin is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683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 of Where she Lived Before De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3:10:17Z</dcterms:created>
  <dc:creator/>
  <dc:description/>
  <dc:language>en-US</dc:language>
  <cp:lastModifiedBy/>
  <cp:revision>1</cp:revision>
  <dc:subject/>
  <dc:title>Slide 1</dc:title>
</cp:coreProperties>
</file>